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AF8E-3011-44D8-AD95-BBE4FB161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7251-C43C-43EF-AA53-0EF52721B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479B-433C-4766-8967-4C04B8EE9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278D-F66A-4296-8D37-A6B1D6CC5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46868-B9BC-48BE-B11E-758C06F7A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007BC-E1C3-423F-93C0-B9965D938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8F917-55FA-493D-8848-AB4447C98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0B45A-E589-40DD-BD60-1E12D6DD2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0D159-D888-43C4-91F1-D5C4B9E78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721D1-6147-43A6-9A24-7DD78E90C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3FB3A-57BC-4EA2-9981-B0341051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4BDD-097C-45C4-A473-DCF02BD4E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F84A1-FEE4-455A-87F5-CBAD6330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6BC44-C8E3-4774-9C54-19B7B0FA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EE23A-C694-4146-9838-A8617DDBF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860E5-F9FD-4AFD-98DF-23E70F6F3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196A9-4918-4D28-988A-E0439E58A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3CE9-8D95-4914-B20B-CFC40F76D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8EC1-CE79-414E-8719-6AB68982F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FEAE-0A53-4481-BA7C-BA46FA58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E119-9A2E-440E-8884-0876F03D3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4D89-928B-44F8-8A9F-8BCCEA46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09F7-30DF-4B6F-B3B4-D86EF05E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1FB9-3D09-4994-A6C5-73525A1F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3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5720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4C37B-0A91-47F3-BF63-D52052C810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680" y="550440"/>
            <a:ext cx="82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91960" y="619560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746080" y="6195600"/>
            <a:ext cx="398124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46440" y="6195600"/>
            <a:ext cx="16765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9020F-8954-4B1B-B1CA-94C83D4FDC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 trial balance che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09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xbrli:xbr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accountingEntries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entryHead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qualifierEntry …&gt;</a:t>
            </a: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balance-brought-forwar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entryDetai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amount …&gt;242678.26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debitCreditCode …"&gt;</a:t>
            </a: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gl-cor:entryDetai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gl-cor:entryHead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entryHead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qualifierEntry …&gt;</a:t>
            </a: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standar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entryDetai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amount …&gt;242678.26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debitCreditCode …"&gt;</a:t>
            </a: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gl-cor:entryDetai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gl-cor:entryHead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gl-cor:accountingEntries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xbrli:xbr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6920" y="2246400"/>
            <a:ext cx="11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account</a:t>
            </a:r>
            <a:br>
              <a:rPr sz="1800"/>
            </a:b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bal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30400" y="441972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period’s</a:t>
            </a:r>
            <a:br>
              <a:rPr sz="1800"/>
            </a:b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295280" y="2133720"/>
            <a:ext cx="3733920" cy="38088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371600" y="4191120"/>
            <a:ext cx="3505320" cy="45720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97480" y="327672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D – de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C - cred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5638680" y="2971440"/>
            <a:ext cx="457200" cy="60948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638680" y="3581280"/>
            <a:ext cx="457200" cy="121932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76920" y="571500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ff"/>
                </a:solidFill>
                <a:uFillTx/>
                <a:latin typeface="Arial"/>
              </a:rPr>
              <a:t>Check if sections are in balance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sum(amts with ‘D’ siblings) = </a:t>
            </a:r>
            <a:br>
              <a:rPr sz="1800"/>
            </a:b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sum(amts with ‘C’ sibling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924680" y="1752480"/>
            <a:ext cx="76320" cy="1905120"/>
          </a:xfrm>
          <a:custGeom>
            <a:avLst/>
            <a:gdLst>
              <a:gd name="textAreaLeft" fmla="*/ 0 w 76320"/>
              <a:gd name="textAreaRight" fmla="*/ 27360 w 7632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0" y="3733920"/>
            <a:ext cx="76320" cy="1904760"/>
          </a:xfrm>
          <a:custGeom>
            <a:avLst/>
            <a:gdLst>
              <a:gd name="textAreaLeft" fmla="*/ 0 w 76320"/>
              <a:gd name="textAreaRight" fmla="*/ 27360 w 7632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7619760" y="2743200"/>
            <a:ext cx="533160" cy="297180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86600" y="4724280"/>
            <a:ext cx="152280" cy="99072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9853-16B9-408A-A8C9-ABC7A0B694A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l filt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78508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Just an XPath 2 expres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ed to test if sibling of amount is credit cod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gl-cor:entryDetai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gl-cor:amount …&gt;242678.26&lt;/ …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gl-cor:debitCreditCode …"&gt;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/gl-cor:entryDetai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est=“../gl-cor:debitCreditCode eq ‘D’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410080" y="3200400"/>
            <a:ext cx="1371600" cy="457200"/>
          </a:xfrm>
          <a:prstGeom prst="ellipse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00800" y="3657600"/>
            <a:ext cx="609480" cy="304920"/>
          </a:xfrm>
          <a:prstGeom prst="ellipse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A6DA-E07F-414E-A2DF-CE3CFC5D1E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ial balance check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80880" y="1146240"/>
            <a:ext cx="8305920" cy="555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A44D-3777-458B-96DC-46E1712391C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alue filt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78508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Value matches an XPath 2 expres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ot Nil tes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il tes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Precision expres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5C69-6E6D-4F78-9F32-40B45E57F6E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 ending balance compu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09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xbrli:xbr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ccountingEntries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entry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qualifierEntry …&gt;</a:t>
            </a:r>
            <a:r>
              <a:rPr b="1" lang="en-US" sz="1300" spc="-1" strike="noStrike">
                <a:solidFill>
                  <a:srgbClr val="990000"/>
                </a:solidFill>
                <a:latin typeface="Arial"/>
              </a:rPr>
              <a:t>balance-brought-forward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entryDetai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ccount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ccountMainID …&gt;</a:t>
            </a:r>
            <a:r>
              <a:rPr b="1" lang="en-US" sz="1300" spc="-1" strike="noStrike">
                <a:solidFill>
                  <a:srgbClr val="990000"/>
                </a:solidFill>
                <a:latin typeface="Arial"/>
              </a:rPr>
              <a:t>5100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ccountMainDescription …&gt;</a:t>
            </a:r>
            <a:r>
              <a:rPr b="1" lang="en-US" sz="1300" spc="-1" strike="noStrike">
                <a:solidFill>
                  <a:srgbClr val="990000"/>
                </a:solidFill>
                <a:latin typeface="Arial"/>
              </a:rPr>
              <a:t>Supplies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ccountType …&gt;account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gl-cor:account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mount …&gt;242678.26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debitCreditCode …"&gt;</a:t>
            </a:r>
            <a:r>
              <a:rPr b="1" lang="en-US" sz="1300" spc="-1" strike="noStrike">
                <a:solidFill>
                  <a:srgbClr val="990000"/>
                </a:solidFill>
                <a:latin typeface="Arial"/>
              </a:rPr>
              <a:t>D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xbrlInfo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xbrlInclude …&gt;beginning_balance&lt;/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gl-cor:xbrlInfo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gl-cor:entryDetai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gl-cor:entry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entry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qualifierEntry …&gt;</a:t>
            </a:r>
            <a:r>
              <a:rPr b="1" lang="en-US" sz="1300" spc="-1" strike="noStrike">
                <a:solidFill>
                  <a:srgbClr val="990000"/>
                </a:solidFill>
                <a:latin typeface="Arial"/>
              </a:rPr>
              <a:t>standard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entryDetai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gl-cor:entryDetai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gl-cor:entry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gl-cor:accountingEntries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xbrli:xbr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2209680"/>
            <a:ext cx="152640" cy="1905120"/>
          </a:xfrm>
          <a:custGeom>
            <a:avLst/>
            <a:gdLst>
              <a:gd name="textAreaLeft" fmla="*/ 97560 w 152640"/>
              <a:gd name="textAreaRight" fmla="*/ 153000 w 15264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97080" y="2819520"/>
            <a:ext cx="160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aggregate 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ac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38680" y="3581280"/>
            <a:ext cx="1752840" cy="533520"/>
          </a:xfrm>
          <a:prstGeom prst="ellipse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6960" y="4038480"/>
            <a:ext cx="25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skip ending_bal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01DA-4DF7-47F8-A6ED-DE7511ACC2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 ending balance compu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28600" y="1136520"/>
            <a:ext cx="8534520" cy="556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54A6-71DE-4AE3-BEF3-76A2F34DC23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 ending balance tes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dded 2 more variab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r each accou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t amount for ending-balance entry with ‘C’ (credit) c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t amount for ending-balance entry with ‘D’ (debit) c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ange equation to tes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m (credits which are not ending-balance -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debits which are not ending-balance +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redit which is ending-balance –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ebit which is not ending-balance) &lt; 1.00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93D7-71DA-42FD-AFC1-1E4DE29940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4T20:38:47Z</dcterms:created>
  <dc:creator>Dan A</dc:creator>
  <dc:description/>
  <dc:language>en-US</dc:language>
  <cp:lastModifiedBy>Herm Fischer</cp:lastModifiedBy>
  <cp:lastPrinted>2002-02-20T16:15:59Z</cp:lastPrinted>
  <dcterms:modified xsi:type="dcterms:W3CDTF">2007-10-01T02:04:19Z</dcterms:modified>
  <cp:revision>198</cp:revision>
  <dc:subject/>
  <dc:title>Materials preparation</dc:title>
</cp:coreProperties>
</file>